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724-9835-45F9-B662-7D6FD706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809-A1C1-4C2A-BC19-79C6F2E9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55A-A5D1-4C13-A007-EB4B0D6E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9AC-C555-4E9A-BF91-FBCC9CAB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800-85A9-4E73-93F0-9398407E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064-0DA7-4C37-A471-BFEE87F6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1C4-D89C-427B-A986-E6BB81C6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0E7-7F67-4AC3-963D-4C2FEE76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1F8-11C3-4C20-9DD4-52194CD5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F56-C390-4FE0-8DFC-9D231E11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B74-74B1-4710-8F8A-ADABEA8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AA2-1068-44DF-A619-8A69D69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1567-4A80-47E7-B4EC-0CFB5031E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/map.con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4-13 &amp; 14-11   *G.R. 9-3 Due Fri.  *Focus Test &amp; Ch. 9 Test on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710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Freeform 2"/>
          <p:cNvSpPr/>
          <p:nvPr/>
        </p:nvSpPr>
        <p:spPr>
          <a:xfrm flipH="1" rot="344400">
            <a:off x="772920" y="6665760"/>
            <a:ext cx="998280" cy="501840"/>
          </a:xfrm>
          <a:custGeom>
            <a:avLst/>
            <a:gdLst/>
            <a:ahLst/>
            <a:rect l="l" t="t" r="r" b="b"/>
            <a:pathLst>
              <a:path w="1011752" h="488978">
                <a:moveTo>
                  <a:pt x="41659" y="129808"/>
                </a:moveTo>
                <a:cubicBezTo>
                  <a:pt x="53032" y="122984"/>
                  <a:pt x="71369" y="125147"/>
                  <a:pt x="82602" y="116160"/>
                </a:cubicBezTo>
                <a:cubicBezTo>
                  <a:pt x="126526" y="81020"/>
                  <a:pt x="88718" y="64864"/>
                  <a:pt x="150841" y="47921"/>
                </a:cubicBezTo>
                <a:cubicBezTo>
                  <a:pt x="186226" y="38270"/>
                  <a:pt x="223629" y="38822"/>
                  <a:pt x="260023" y="34273"/>
                </a:cubicBezTo>
                <a:cubicBezTo>
                  <a:pt x="359703" y="1047"/>
                  <a:pt x="313996" y="0"/>
                  <a:pt x="396500" y="20625"/>
                </a:cubicBezTo>
                <a:cubicBezTo>
                  <a:pt x="512663" y="98068"/>
                  <a:pt x="445782" y="78840"/>
                  <a:pt x="601217" y="61569"/>
                </a:cubicBezTo>
                <a:cubicBezTo>
                  <a:pt x="701301" y="66118"/>
                  <a:pt x="801778" y="65248"/>
                  <a:pt x="901468" y="75217"/>
                </a:cubicBezTo>
                <a:cubicBezTo>
                  <a:pt x="938796" y="78950"/>
                  <a:pt x="1010650" y="102512"/>
                  <a:pt x="1010650" y="102512"/>
                </a:cubicBezTo>
                <a:cubicBezTo>
                  <a:pt x="933356" y="488978"/>
                  <a:pt x="1011752" y="213294"/>
                  <a:pt x="14363" y="157103"/>
                </a:cubicBezTo>
                <a:cubicBezTo>
                  <a:pt x="0" y="156294"/>
                  <a:pt x="30286" y="136632"/>
                  <a:pt x="41659" y="129808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6095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t of Gibral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5"/>
          <p:cNvCxnSpPr/>
          <p:nvPr/>
        </p:nvCxnSpPr>
        <p:spPr>
          <a:xfrm>
            <a:off x="304920" y="6629040"/>
            <a:ext cx="102600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Freeform 8"/>
          <p:cNvSpPr/>
          <p:nvPr/>
        </p:nvSpPr>
        <p:spPr>
          <a:xfrm>
            <a:off x="5361120" y="2092320"/>
            <a:ext cx="3255840" cy="4695840"/>
          </a:xfrm>
          <a:custGeom>
            <a:avLst/>
            <a:gdLst/>
            <a:ahLst/>
            <a:rect l="l" t="t" r="r" b="b"/>
            <a:pathLst>
              <a:path w="3255818" h="4696691">
                <a:moveTo>
                  <a:pt x="304800" y="4696691"/>
                </a:moveTo>
                <a:cubicBezTo>
                  <a:pt x="277829" y="4615776"/>
                  <a:pt x="312049" y="4690086"/>
                  <a:pt x="249382" y="4627419"/>
                </a:cubicBezTo>
                <a:cubicBezTo>
                  <a:pt x="237608" y="4615645"/>
                  <a:pt x="232333" y="4598647"/>
                  <a:pt x="221673" y="4585855"/>
                </a:cubicBezTo>
                <a:cubicBezTo>
                  <a:pt x="209130" y="4570803"/>
                  <a:pt x="191497" y="4560235"/>
                  <a:pt x="180109" y="4544291"/>
                </a:cubicBezTo>
                <a:cubicBezTo>
                  <a:pt x="168105" y="4527485"/>
                  <a:pt x="165622" y="4504739"/>
                  <a:pt x="152400" y="4488873"/>
                </a:cubicBezTo>
                <a:cubicBezTo>
                  <a:pt x="141740" y="4476081"/>
                  <a:pt x="123628" y="4471824"/>
                  <a:pt x="110836" y="4461164"/>
                </a:cubicBezTo>
                <a:cubicBezTo>
                  <a:pt x="77734" y="4433579"/>
                  <a:pt x="25737" y="4372119"/>
                  <a:pt x="13855" y="4336473"/>
                </a:cubicBezTo>
                <a:lnTo>
                  <a:pt x="0" y="4294909"/>
                </a:lnTo>
                <a:cubicBezTo>
                  <a:pt x="4618" y="4257964"/>
                  <a:pt x="7195" y="4220705"/>
                  <a:pt x="13855" y="4184073"/>
                </a:cubicBezTo>
                <a:cubicBezTo>
                  <a:pt x="16467" y="4169705"/>
                  <a:pt x="17382" y="4152836"/>
                  <a:pt x="27709" y="4142509"/>
                </a:cubicBezTo>
                <a:cubicBezTo>
                  <a:pt x="38036" y="4132182"/>
                  <a:pt x="55418" y="4133273"/>
                  <a:pt x="69273" y="4128655"/>
                </a:cubicBezTo>
                <a:cubicBezTo>
                  <a:pt x="176431" y="4057215"/>
                  <a:pt x="61578" y="4123817"/>
                  <a:pt x="318655" y="4087091"/>
                </a:cubicBezTo>
                <a:cubicBezTo>
                  <a:pt x="347569" y="4082960"/>
                  <a:pt x="401782" y="4059382"/>
                  <a:pt x="401782" y="4059382"/>
                </a:cubicBezTo>
                <a:cubicBezTo>
                  <a:pt x="411018" y="4045528"/>
                  <a:pt x="419089" y="4030821"/>
                  <a:pt x="429491" y="4017819"/>
                </a:cubicBezTo>
                <a:cubicBezTo>
                  <a:pt x="437651" y="4007619"/>
                  <a:pt x="449363" y="4000559"/>
                  <a:pt x="457200" y="3990109"/>
                </a:cubicBezTo>
                <a:cubicBezTo>
                  <a:pt x="477181" y="3963467"/>
                  <a:pt x="494145" y="3934691"/>
                  <a:pt x="512618" y="3906982"/>
                </a:cubicBezTo>
                <a:cubicBezTo>
                  <a:pt x="521854" y="3893128"/>
                  <a:pt x="524531" y="3870685"/>
                  <a:pt x="540327" y="3865419"/>
                </a:cubicBezTo>
                <a:cubicBezTo>
                  <a:pt x="644796" y="3830595"/>
                  <a:pt x="516028" y="3877569"/>
                  <a:pt x="623455" y="3823855"/>
                </a:cubicBezTo>
                <a:cubicBezTo>
                  <a:pt x="657565" y="3806800"/>
                  <a:pt x="716212" y="3801468"/>
                  <a:pt x="748146" y="3796146"/>
                </a:cubicBezTo>
                <a:lnTo>
                  <a:pt x="831273" y="3768437"/>
                </a:lnTo>
                <a:cubicBezTo>
                  <a:pt x="845127" y="3763819"/>
                  <a:pt x="858292" y="3755904"/>
                  <a:pt x="872836" y="3754582"/>
                </a:cubicBezTo>
                <a:lnTo>
                  <a:pt x="1025236" y="3740728"/>
                </a:lnTo>
                <a:cubicBezTo>
                  <a:pt x="1043709" y="3722255"/>
                  <a:pt x="1055871" y="3693570"/>
                  <a:pt x="1080655" y="3685309"/>
                </a:cubicBezTo>
                <a:cubicBezTo>
                  <a:pt x="1094509" y="3680691"/>
                  <a:pt x="1108795" y="3677208"/>
                  <a:pt x="1122218" y="3671455"/>
                </a:cubicBezTo>
                <a:cubicBezTo>
                  <a:pt x="1141201" y="3663319"/>
                  <a:pt x="1157711" y="3649180"/>
                  <a:pt x="1177636" y="3643746"/>
                </a:cubicBezTo>
                <a:cubicBezTo>
                  <a:pt x="1209141" y="3635154"/>
                  <a:pt x="1242291" y="3634509"/>
                  <a:pt x="1274618" y="3629891"/>
                </a:cubicBezTo>
                <a:cubicBezTo>
                  <a:pt x="1288473" y="3625273"/>
                  <a:pt x="1304778" y="3625160"/>
                  <a:pt x="1316182" y="3616037"/>
                </a:cubicBezTo>
                <a:cubicBezTo>
                  <a:pt x="1329184" y="3605635"/>
                  <a:pt x="1329771" y="3583298"/>
                  <a:pt x="1343891" y="3574473"/>
                </a:cubicBezTo>
                <a:cubicBezTo>
                  <a:pt x="1368659" y="3558993"/>
                  <a:pt x="1427018" y="3546764"/>
                  <a:pt x="1427018" y="3546764"/>
                </a:cubicBezTo>
                <a:cubicBezTo>
                  <a:pt x="1541738" y="3585004"/>
                  <a:pt x="1485844" y="3558272"/>
                  <a:pt x="1593273" y="3629891"/>
                </a:cubicBezTo>
                <a:cubicBezTo>
                  <a:pt x="1607127" y="3639127"/>
                  <a:pt x="1623062" y="3645826"/>
                  <a:pt x="1634836" y="3657600"/>
                </a:cubicBezTo>
                <a:cubicBezTo>
                  <a:pt x="1644073" y="3666836"/>
                  <a:pt x="1650863" y="3679467"/>
                  <a:pt x="1662546" y="3685309"/>
                </a:cubicBezTo>
                <a:cubicBezTo>
                  <a:pt x="1740486" y="3724280"/>
                  <a:pt x="1810155" y="3718881"/>
                  <a:pt x="1898073" y="3726873"/>
                </a:cubicBezTo>
                <a:cubicBezTo>
                  <a:pt x="1916546" y="3731491"/>
                  <a:pt x="1935182" y="3735497"/>
                  <a:pt x="1953491" y="3740728"/>
                </a:cubicBezTo>
                <a:cubicBezTo>
                  <a:pt x="1967533" y="3744740"/>
                  <a:pt x="1980650" y="3752181"/>
                  <a:pt x="1995055" y="3754582"/>
                </a:cubicBezTo>
                <a:cubicBezTo>
                  <a:pt x="2036305" y="3761457"/>
                  <a:pt x="2078182" y="3763819"/>
                  <a:pt x="2119746" y="3768437"/>
                </a:cubicBezTo>
                <a:cubicBezTo>
                  <a:pt x="2143382" y="3780255"/>
                  <a:pt x="2187280" y="3805470"/>
                  <a:pt x="2216727" y="3810000"/>
                </a:cubicBezTo>
                <a:cubicBezTo>
                  <a:pt x="2296125" y="3822215"/>
                  <a:pt x="2500777" y="3833555"/>
                  <a:pt x="2563091" y="3837709"/>
                </a:cubicBezTo>
                <a:cubicBezTo>
                  <a:pt x="2576946" y="3842327"/>
                  <a:pt x="2591593" y="3845033"/>
                  <a:pt x="2604655" y="3851564"/>
                </a:cubicBezTo>
                <a:cubicBezTo>
                  <a:pt x="2619548" y="3859011"/>
                  <a:pt x="2630154" y="3874892"/>
                  <a:pt x="2646218" y="3879273"/>
                </a:cubicBezTo>
                <a:cubicBezTo>
                  <a:pt x="2682139" y="3889070"/>
                  <a:pt x="2720109" y="3888510"/>
                  <a:pt x="2757055" y="3893128"/>
                </a:cubicBezTo>
                <a:cubicBezTo>
                  <a:pt x="2770909" y="3902364"/>
                  <a:pt x="2783402" y="3914074"/>
                  <a:pt x="2798618" y="3920837"/>
                </a:cubicBezTo>
                <a:cubicBezTo>
                  <a:pt x="2825309" y="3932700"/>
                  <a:pt x="2881746" y="3948546"/>
                  <a:pt x="2881746" y="3948546"/>
                </a:cubicBezTo>
                <a:cubicBezTo>
                  <a:pt x="2895600" y="3943928"/>
                  <a:pt x="2916778" y="3947753"/>
                  <a:pt x="2923309" y="3934691"/>
                </a:cubicBezTo>
                <a:cubicBezTo>
                  <a:pt x="2929840" y="3921629"/>
                  <a:pt x="2915986" y="3906190"/>
                  <a:pt x="2909455" y="3893128"/>
                </a:cubicBezTo>
                <a:cubicBezTo>
                  <a:pt x="2902008" y="3878235"/>
                  <a:pt x="2889193" y="3866457"/>
                  <a:pt x="2881746" y="3851564"/>
                </a:cubicBezTo>
                <a:cubicBezTo>
                  <a:pt x="2852323" y="3792717"/>
                  <a:pt x="2890792" y="3818576"/>
                  <a:pt x="2826327" y="3768437"/>
                </a:cubicBezTo>
                <a:cubicBezTo>
                  <a:pt x="2800040" y="3747992"/>
                  <a:pt x="2743200" y="3713019"/>
                  <a:pt x="2743200" y="3713019"/>
                </a:cubicBezTo>
                <a:cubicBezTo>
                  <a:pt x="2747818" y="3666837"/>
                  <a:pt x="2749998" y="3620346"/>
                  <a:pt x="2757055" y="3574473"/>
                </a:cubicBezTo>
                <a:cubicBezTo>
                  <a:pt x="2759276" y="3560039"/>
                  <a:pt x="2761786" y="3544313"/>
                  <a:pt x="2770909" y="3532909"/>
                </a:cubicBezTo>
                <a:cubicBezTo>
                  <a:pt x="2781311" y="3519907"/>
                  <a:pt x="2798016" y="3513461"/>
                  <a:pt x="2812473" y="3505200"/>
                </a:cubicBezTo>
                <a:cubicBezTo>
                  <a:pt x="2830405" y="3494953"/>
                  <a:pt x="2849418" y="3486727"/>
                  <a:pt x="2867891" y="3477491"/>
                </a:cubicBezTo>
                <a:cubicBezTo>
                  <a:pt x="2881746" y="3482109"/>
                  <a:pt x="2894851" y="3491346"/>
                  <a:pt x="2909455" y="3491346"/>
                </a:cubicBezTo>
                <a:cubicBezTo>
                  <a:pt x="2991275" y="3491346"/>
                  <a:pt x="2964463" y="3401344"/>
                  <a:pt x="2937164" y="3338946"/>
                </a:cubicBezTo>
                <a:cubicBezTo>
                  <a:pt x="2921457" y="3303045"/>
                  <a:pt x="2881745" y="3283528"/>
                  <a:pt x="2854036" y="3255819"/>
                </a:cubicBezTo>
                <a:cubicBezTo>
                  <a:pt x="2809993" y="3211776"/>
                  <a:pt x="2836788" y="3235955"/>
                  <a:pt x="2770909" y="3186546"/>
                </a:cubicBezTo>
                <a:cubicBezTo>
                  <a:pt x="2756899" y="3165531"/>
                  <a:pt x="2729346" y="3132099"/>
                  <a:pt x="2729346" y="3103419"/>
                </a:cubicBezTo>
                <a:cubicBezTo>
                  <a:pt x="2729346" y="3088815"/>
                  <a:pt x="2732873" y="3072182"/>
                  <a:pt x="2743200" y="3061855"/>
                </a:cubicBezTo>
                <a:cubicBezTo>
                  <a:pt x="2753527" y="3051528"/>
                  <a:pt x="2770909" y="3052618"/>
                  <a:pt x="2784764" y="3048000"/>
                </a:cubicBezTo>
                <a:cubicBezTo>
                  <a:pt x="2794000" y="3034146"/>
                  <a:pt x="2805027" y="3021330"/>
                  <a:pt x="2812473" y="3006437"/>
                </a:cubicBezTo>
                <a:cubicBezTo>
                  <a:pt x="2819004" y="2993375"/>
                  <a:pt x="2817204" y="2976277"/>
                  <a:pt x="2826327" y="2964873"/>
                </a:cubicBezTo>
                <a:cubicBezTo>
                  <a:pt x="2836729" y="2951871"/>
                  <a:pt x="2854036" y="2946400"/>
                  <a:pt x="2867891" y="2937164"/>
                </a:cubicBezTo>
                <a:cubicBezTo>
                  <a:pt x="2929978" y="2957860"/>
                  <a:pt x="2949778" y="2970912"/>
                  <a:pt x="3034146" y="2937164"/>
                </a:cubicBezTo>
                <a:cubicBezTo>
                  <a:pt x="3047705" y="2931740"/>
                  <a:pt x="3043382" y="2909455"/>
                  <a:pt x="3048000" y="2895600"/>
                </a:cubicBezTo>
                <a:cubicBezTo>
                  <a:pt x="3052618" y="2863273"/>
                  <a:pt x="3051528" y="2829598"/>
                  <a:pt x="3061855" y="2798619"/>
                </a:cubicBezTo>
                <a:cubicBezTo>
                  <a:pt x="3074782" y="2759839"/>
                  <a:pt x="3133420" y="2763409"/>
                  <a:pt x="3158836" y="2757055"/>
                </a:cubicBezTo>
                <a:cubicBezTo>
                  <a:pt x="3173004" y="2753513"/>
                  <a:pt x="3186545" y="2747818"/>
                  <a:pt x="3200400" y="2743200"/>
                </a:cubicBezTo>
                <a:cubicBezTo>
                  <a:pt x="3205018" y="2729346"/>
                  <a:pt x="3213893" y="2716236"/>
                  <a:pt x="3214255" y="2701637"/>
                </a:cubicBezTo>
                <a:cubicBezTo>
                  <a:pt x="3227764" y="2156781"/>
                  <a:pt x="3234395" y="1611771"/>
                  <a:pt x="3241964" y="1066800"/>
                </a:cubicBezTo>
                <a:cubicBezTo>
                  <a:pt x="3246903" y="711204"/>
                  <a:pt x="3255818" y="355630"/>
                  <a:pt x="325581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7467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822960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238880" y="53341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sia’s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6730920" y="6159600"/>
            <a:ext cx="1974960" cy="725400"/>
          </a:xfrm>
          <a:custGeom>
            <a:avLst/>
            <a:gdLst/>
            <a:ahLst/>
            <a:rect l="l" t="t" r="r" b="b"/>
            <a:pathLst>
              <a:path w="1974858" h="726206">
                <a:moveTo>
                  <a:pt x="293555" y="365988"/>
                </a:moveTo>
                <a:cubicBezTo>
                  <a:pt x="312028" y="370606"/>
                  <a:pt x="330664" y="374611"/>
                  <a:pt x="348973" y="379842"/>
                </a:cubicBezTo>
                <a:cubicBezTo>
                  <a:pt x="363015" y="383854"/>
                  <a:pt x="375932" y="393697"/>
                  <a:pt x="390536" y="393697"/>
                </a:cubicBezTo>
                <a:cubicBezTo>
                  <a:pt x="432355" y="393697"/>
                  <a:pt x="473663" y="384460"/>
                  <a:pt x="515227" y="379842"/>
                </a:cubicBezTo>
                <a:cubicBezTo>
                  <a:pt x="665972" y="329596"/>
                  <a:pt x="428711" y="404512"/>
                  <a:pt x="847736" y="352133"/>
                </a:cubicBezTo>
                <a:cubicBezTo>
                  <a:pt x="864259" y="350068"/>
                  <a:pt x="875445" y="333660"/>
                  <a:pt x="889300" y="324424"/>
                </a:cubicBezTo>
                <a:cubicBezTo>
                  <a:pt x="907773" y="329042"/>
                  <a:pt x="926409" y="333047"/>
                  <a:pt x="944718" y="338278"/>
                </a:cubicBezTo>
                <a:cubicBezTo>
                  <a:pt x="958760" y="342290"/>
                  <a:pt x="971678" y="352133"/>
                  <a:pt x="986282" y="352133"/>
                </a:cubicBezTo>
                <a:cubicBezTo>
                  <a:pt x="1032694" y="352133"/>
                  <a:pt x="1078645" y="342896"/>
                  <a:pt x="1124827" y="338278"/>
                </a:cubicBezTo>
                <a:cubicBezTo>
                  <a:pt x="1120209" y="315187"/>
                  <a:pt x="1120717" y="290443"/>
                  <a:pt x="1110973" y="269006"/>
                </a:cubicBezTo>
                <a:cubicBezTo>
                  <a:pt x="1097193" y="238689"/>
                  <a:pt x="1055555" y="185878"/>
                  <a:pt x="1055555" y="185878"/>
                </a:cubicBezTo>
                <a:cubicBezTo>
                  <a:pt x="1060173" y="148933"/>
                  <a:pt x="1041140" y="99273"/>
                  <a:pt x="1069409" y="75042"/>
                </a:cubicBezTo>
                <a:cubicBezTo>
                  <a:pt x="1091585" y="56034"/>
                  <a:pt x="1123622" y="98620"/>
                  <a:pt x="1152536" y="102751"/>
                </a:cubicBezTo>
                <a:lnTo>
                  <a:pt x="1249518" y="116606"/>
                </a:lnTo>
                <a:cubicBezTo>
                  <a:pt x="1258754" y="130460"/>
                  <a:pt x="1264225" y="147767"/>
                  <a:pt x="1277227" y="158169"/>
                </a:cubicBezTo>
                <a:cubicBezTo>
                  <a:pt x="1311310" y="185435"/>
                  <a:pt x="1352555" y="165271"/>
                  <a:pt x="1388064" y="158169"/>
                </a:cubicBezTo>
                <a:cubicBezTo>
                  <a:pt x="1397300" y="144315"/>
                  <a:pt x="1403999" y="128380"/>
                  <a:pt x="1415773" y="116606"/>
                </a:cubicBezTo>
                <a:cubicBezTo>
                  <a:pt x="1427547" y="104832"/>
                  <a:pt x="1440852" y="91252"/>
                  <a:pt x="1457336" y="88897"/>
                </a:cubicBezTo>
                <a:cubicBezTo>
                  <a:pt x="1479318" y="85757"/>
                  <a:pt x="1570258" y="125752"/>
                  <a:pt x="1582027" y="130460"/>
                </a:cubicBezTo>
                <a:cubicBezTo>
                  <a:pt x="1559782" y="137875"/>
                  <a:pt x="1451245" y="160287"/>
                  <a:pt x="1595882" y="199733"/>
                </a:cubicBezTo>
                <a:cubicBezTo>
                  <a:pt x="1627387" y="208325"/>
                  <a:pt x="1660537" y="190496"/>
                  <a:pt x="1692864" y="185878"/>
                </a:cubicBezTo>
                <a:cubicBezTo>
                  <a:pt x="1698270" y="142630"/>
                  <a:pt x="1690767" y="68406"/>
                  <a:pt x="1734427" y="33478"/>
                </a:cubicBezTo>
                <a:cubicBezTo>
                  <a:pt x="1745831" y="24355"/>
                  <a:pt x="1762136" y="24242"/>
                  <a:pt x="1775991" y="19624"/>
                </a:cubicBezTo>
                <a:cubicBezTo>
                  <a:pt x="1879187" y="88420"/>
                  <a:pt x="1752443" y="0"/>
                  <a:pt x="1859118" y="88897"/>
                </a:cubicBezTo>
                <a:cubicBezTo>
                  <a:pt x="1974858" y="185348"/>
                  <a:pt x="1820810" y="36734"/>
                  <a:pt x="1942245" y="158169"/>
                </a:cubicBezTo>
                <a:cubicBezTo>
                  <a:pt x="1937627" y="338278"/>
                  <a:pt x="1946318" y="519223"/>
                  <a:pt x="1928391" y="698497"/>
                </a:cubicBezTo>
                <a:cubicBezTo>
                  <a:pt x="1926938" y="713029"/>
                  <a:pt x="1901404" y="711468"/>
                  <a:pt x="1886827" y="712351"/>
                </a:cubicBezTo>
                <a:cubicBezTo>
                  <a:pt x="1748459" y="720737"/>
                  <a:pt x="1609736" y="721588"/>
                  <a:pt x="1471191" y="726206"/>
                </a:cubicBezTo>
                <a:lnTo>
                  <a:pt x="71882" y="698497"/>
                </a:lnTo>
                <a:cubicBezTo>
                  <a:pt x="0" y="689871"/>
                  <a:pt x="91344" y="546014"/>
                  <a:pt x="113445" y="518388"/>
                </a:cubicBezTo>
                <a:cubicBezTo>
                  <a:pt x="121605" y="508188"/>
                  <a:pt x="131918" y="499915"/>
                  <a:pt x="141155" y="490678"/>
                </a:cubicBezTo>
                <a:cubicBezTo>
                  <a:pt x="155768" y="402996"/>
                  <a:pt x="155009" y="435642"/>
                  <a:pt x="155009" y="393697"/>
                </a:cubicBezTo>
              </a:path>
            </a:pathLst>
          </a:custGeom>
          <a:solidFill>
            <a:srgbClr val="5dfd7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8153280" y="5029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0" y="380880"/>
            <a:ext cx="4191120" cy="328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1-11 Use Blue book p. 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284040" y="12333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270000" y="1635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84040" y="2022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290520" y="24447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lg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290520" y="28605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290520" y="33116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838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9"/>
          <p:cNvSpPr/>
          <p:nvPr/>
        </p:nvSpPr>
        <p:spPr>
          <a:xfrm>
            <a:off x="167652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2209680" y="5257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2570040" y="475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2556000" y="430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3"/>
          <p:cNvSpPr/>
          <p:nvPr/>
        </p:nvSpPr>
        <p:spPr>
          <a:xfrm>
            <a:off x="3144960" y="4710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5"/>
          <p:cNvCxnSpPr/>
          <p:nvPr/>
        </p:nvCxnSpPr>
        <p:spPr>
          <a:xfrm>
            <a:off x="2818440" y="449532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37"/>
          <p:cNvSpPr/>
          <p:nvPr/>
        </p:nvSpPr>
        <p:spPr>
          <a:xfrm>
            <a:off x="4267080" y="380880"/>
            <a:ext cx="48769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et out Big Europe Map and map pe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eo7fly"/>
          <p:cNvPicPr/>
          <p:nvPr/>
        </p:nvPicPr>
        <p:blipFill>
          <a:blip r:embed="rId1"/>
          <a:stretch/>
        </p:blipFill>
        <p:spPr>
          <a:xfrm>
            <a:off x="0" y="0"/>
            <a:ext cx="6149880" cy="5181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leo8para"/>
          <p:cNvPicPr/>
          <p:nvPr/>
        </p:nvPicPr>
        <p:blipFill>
          <a:blip r:embed="rId2"/>
          <a:stretch/>
        </p:blipFill>
        <p:spPr>
          <a:xfrm>
            <a:off x="6172200" y="1143000"/>
            <a:ext cx="2971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oarch"/>
          <p:cNvPicPr/>
          <p:nvPr/>
        </p:nvPicPr>
        <p:blipFill>
          <a:blip r:embed="rId1"/>
          <a:stretch/>
        </p:blipFill>
        <p:spPr>
          <a:xfrm>
            <a:off x="0" y="0"/>
            <a:ext cx="54100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leoauto"/>
          <p:cNvPicPr/>
          <p:nvPr/>
        </p:nvPicPr>
        <p:blipFill>
          <a:blip r:embed="rId2"/>
          <a:stretch/>
        </p:blipFill>
        <p:spPr>
          <a:xfrm>
            <a:off x="5562720" y="228600"/>
            <a:ext cx="3581280" cy="601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leodig"/>
          <p:cNvPicPr/>
          <p:nvPr/>
        </p:nvPicPr>
        <p:blipFill>
          <a:blip r:embed="rId3"/>
          <a:stretch/>
        </p:blipFill>
        <p:spPr>
          <a:xfrm>
            <a:off x="0" y="2730600"/>
            <a:ext cx="57150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leofloats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ichelangelo"/>
          <p:cNvPicPr/>
          <p:nvPr/>
        </p:nvPicPr>
        <p:blipFill>
          <a:blip r:embed="rId1"/>
          <a:stretch/>
        </p:blipFill>
        <p:spPr>
          <a:xfrm>
            <a:off x="0" y="91440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1pieta1"/>
          <p:cNvPicPr/>
          <p:nvPr/>
        </p:nvPicPr>
        <p:blipFill>
          <a:blip r:embed="rId2"/>
          <a:srcRect l="6179" t="0" r="5070" b="0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808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nformal Roman"/>
              </a:rPr>
              <a:t>Michelangelo</a:t>
            </a:r>
            <a:r>
              <a:rPr b="1" lang="en-US" sz="4400" spc="-1" strike="noStrike">
                <a:solidFill>
                  <a:srgbClr val="ffffff"/>
                </a:solidFill>
                <a:latin typeface="Informal Roman"/>
              </a:rPr>
              <a:t>    Buonarr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St. Peter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chitect for St. Peter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B-Pietro"/>
          <p:cNvPicPr/>
          <p:nvPr/>
        </p:nvPicPr>
        <p:blipFill>
          <a:blip r:embed="rId1"/>
          <a:stretch/>
        </p:blipFill>
        <p:spPr>
          <a:xfrm>
            <a:off x="4281480" y="1600200"/>
            <a:ext cx="474840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Line 4"/>
          <p:cNvSpPr/>
          <p:nvPr/>
        </p:nvSpPr>
        <p:spPr>
          <a:xfrm>
            <a:off x="609480" y="121932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peters"/>
          <p:cNvPicPr/>
          <p:nvPr/>
        </p:nvPicPr>
        <p:blipFill>
          <a:blip r:embed="rId2"/>
          <a:srcRect l="14461" t="0" r="5567" b="40787"/>
          <a:stretch/>
        </p:blipFill>
        <p:spPr>
          <a:xfrm>
            <a:off x="306360" y="2666880"/>
            <a:ext cx="3794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ile:Vatican City at 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ile:Vatican StPeter Square.jpg"/>
          <p:cNvPicPr/>
          <p:nvPr/>
        </p:nvPicPr>
        <p:blipFill>
          <a:blip r:embed="rId1"/>
          <a:stretch/>
        </p:blipFill>
        <p:spPr>
          <a:xfrm>
            <a:off x="-187200" y="4572000"/>
            <a:ext cx="933120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ile:Giovanni Paolo Panini - Interior of St. Peter's, Rome.jpg"/>
          <p:cNvPicPr/>
          <p:nvPr/>
        </p:nvPicPr>
        <p:blipFill>
          <a:blip r:embed="rId2"/>
          <a:stretch/>
        </p:blipFill>
        <p:spPr>
          <a:xfrm>
            <a:off x="1295280" y="0"/>
            <a:ext cx="6672240" cy="424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905120" y="4267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ing of interior of St. Peter’s by 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dam"/>
          <p:cNvPicPr/>
          <p:nvPr/>
        </p:nvPicPr>
        <p:blipFill>
          <a:blip r:embed="rId1"/>
          <a:srcRect l="0" t="0" r="0" b="38616"/>
          <a:stretch/>
        </p:blipFill>
        <p:spPr>
          <a:xfrm>
            <a:off x="1066680" y="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eiling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3"/>
          <p:cNvSpPr txBox="1"/>
          <p:nvPr/>
        </p:nvSpPr>
        <p:spPr>
          <a:xfrm>
            <a:off x="152280" y="1371600"/>
            <a:ext cx="14004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stin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hapel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eil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3657600" y="3886200"/>
            <a:ext cx="1752480" cy="914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istine"/>
          <p:cNvPicPr/>
          <p:nvPr/>
        </p:nvPicPr>
        <p:blipFill>
          <a:blip r:embed="rId1"/>
          <a:srcRect l="0" t="0" r="688" b="0"/>
          <a:stretch/>
        </p:blipFill>
        <p:spPr>
          <a:xfrm>
            <a:off x="2971800" y="380880"/>
            <a:ext cx="412740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1371600" y="2362320"/>
            <a:ext cx="1400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stin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hap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urope"/>
          <p:cNvPicPr/>
          <p:nvPr/>
        </p:nvPicPr>
        <p:blipFill>
          <a:blip r:embed="rId1"/>
          <a:stretch/>
        </p:blipFill>
        <p:spPr>
          <a:xfrm>
            <a:off x="914400" y="23760"/>
            <a:ext cx="7238880" cy="684072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1905120" y="1295280"/>
            <a:ext cx="4914720" cy="1257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 did th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naissance begin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william-shakespeare"/>
          <p:cNvPicPr/>
          <p:nvPr/>
        </p:nvPicPr>
        <p:blipFill>
          <a:blip r:embed="rId1"/>
          <a:stretch/>
        </p:blipFill>
        <p:spPr>
          <a:xfrm>
            <a:off x="228600" y="990720"/>
            <a:ext cx="3276720" cy="4724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038480" y="838080"/>
            <a:ext cx="5105520" cy="4231800"/>
          </a:xfrm>
          <a:prstGeom prst="rect">
            <a:avLst/>
          </a:prstGeom>
          <a:solidFill>
            <a:srgbClr val="ea4e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Friends, Romans, countrymen, lend me your ears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From Julius Cae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or not to be, --that is th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From Ham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Romeo, Romeo! wherefore art thou Romeo?"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From Romeo and Juli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Good night, good night! Parting is such sweet sorrow."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From Romeo and Juli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arrington"/>
              </a:rPr>
              <a:t>William 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leighton3"/>
          <p:cNvPicPr/>
          <p:nvPr/>
        </p:nvPicPr>
        <p:blipFill>
          <a:blip r:embed="rId2"/>
          <a:stretch/>
        </p:blipFill>
        <p:spPr>
          <a:xfrm>
            <a:off x="4038480" y="3552840"/>
            <a:ext cx="5105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nese were the first to invent printing in 86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400’s, Johann Gutenberg of Germany invented a printing press using moveabl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books could be printed with greater speed and less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tenberg Bible is considered one of the first books ever pri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584520" cy="431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444920" cy="55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5943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ye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9144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glasses were invented in the 130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vention of the printing press in the 1400’s, the demand for eyeglasses incre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ighted glasses (for reading) were developed fir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on near-sightedness was able to be corr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3733920"/>
            <a:ext cx="482616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3251160" cy="30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120" y="44956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sh toilet, or water closet as it was called dates back to 1589 when it was invented by Sir John Haring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ington invented a valve that when pulled would release water from a water closet. Sir John recommended flushing the toilet once or twice a day, although with our modern technology, we know that is probably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74960" cy="4191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4308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362320" y="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ush Toi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the Guided Reading 9-3.  If you finish, turn into homeroom t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ork on Big Europe map.  Do NOT turn in if you finish.  I will take them up on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Spend the rest of the period practicing the Europe map for test next week.  Go to wiki; Middle Ages page; Sheppards Software.  Start on level 1 and work up.  Then try out Lizard Point Europe game—It is #2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533520"/>
            <a:ext cx="5081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17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ings of unfinish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ma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ch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much mor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304920" y="11430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avinci"/>
          <p:cNvPicPr/>
          <p:nvPr/>
        </p:nvPicPr>
        <p:blipFill>
          <a:blip r:embed="rId1"/>
          <a:stretch/>
        </p:blipFill>
        <p:spPr>
          <a:xfrm>
            <a:off x="5840280" y="1676520"/>
            <a:ext cx="3075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self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449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371600" y="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Leonardo da Vinc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monali"/>
          <p:cNvPicPr/>
          <p:nvPr/>
        </p:nvPicPr>
        <p:blipFill>
          <a:blip r:embed="rId2"/>
          <a:stretch/>
        </p:blipFill>
        <p:spPr>
          <a:xfrm>
            <a:off x="4648320" y="914400"/>
            <a:ext cx="3654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eo3last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3137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752480" y="3124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Su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 Last Supper"/>
          <p:cNvPicPr/>
          <p:nvPr/>
        </p:nvPicPr>
        <p:blipFill>
          <a:blip r:embed="rId2"/>
          <a:stretch/>
        </p:blipFill>
        <p:spPr>
          <a:xfrm>
            <a:off x="1295280" y="3517920"/>
            <a:ext cx="68580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eo4car"/>
          <p:cNvPicPr/>
          <p:nvPr/>
        </p:nvPicPr>
        <p:blipFill>
          <a:blip r:embed="rId2"/>
          <a:stretch/>
        </p:blipFill>
        <p:spPr>
          <a:xfrm>
            <a:off x="1066680" y="228600"/>
            <a:ext cx="678204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0" y="4022640"/>
            <a:ext cx="91440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Farò carri coperti, securi e inoffensibili; e quali intrando intra li nimici con le sue artiglierie, non è si grande moltitudine di gente d'arme che non rompessimo. E dietro a questi potranno seguire fanterie assai illese e sanza alcuno impedimiento.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 shall make covered chariots, that are safe and cannot be assaulted; cars which fear no great numbers when breaking through the ranks of the enemy and its artillery. Behind them, the infantrymen shall follow, without fearing injury or other impedimen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eo5bow"/>
          <p:cNvPicPr/>
          <p:nvPr/>
        </p:nvPicPr>
        <p:blipFill>
          <a:blip r:embed="rId2"/>
          <a:stretch/>
        </p:blipFill>
        <p:spPr>
          <a:xfrm>
            <a:off x="1219320" y="0"/>
            <a:ext cx="6400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eo6organ"/>
          <p:cNvPicPr/>
          <p:nvPr/>
        </p:nvPicPr>
        <p:blipFill>
          <a:blip r:embed="rId2"/>
          <a:stretch/>
        </p:blipFill>
        <p:spPr>
          <a:xfrm>
            <a:off x="1219320" y="0"/>
            <a:ext cx="7238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26:57Z</dcterms:created>
  <dc:creator>poweruser</dc:creator>
  <dc:description/>
  <dc:language>en-US</dc:language>
  <cp:lastModifiedBy>poweruser</cp:lastModifiedBy>
  <dcterms:modified xsi:type="dcterms:W3CDTF">2011-04-13T12:26:37Z</dcterms:modified>
  <cp:revision>35</cp:revision>
  <dc:subject/>
  <dc:title>Slide 1</dc:title>
</cp:coreProperties>
</file>